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402-33E3-4670-8F06-F7C2163D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1EF-D609-40EB-A82B-DC2CD493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CF6-BF0D-46CC-929B-0E6A534A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413-7FEB-4595-B622-53A2C669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81C-438C-4ECE-8FB8-A37E5B94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B29-822A-4149-88BC-E3231221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274-3E1A-464A-A754-D019DFA7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170-B10F-4AF5-9B33-8B95645C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452-B698-46B2-A28C-9852CEE1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7A0-B921-43F4-918F-73BC8975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F74-5EC1-4E4E-9C6C-97D48C9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41C-3863-4F77-B8DE-F214786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6AC3-2062-48F9-B275-116A12981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 Sans MS"/>
              </a:rPr>
              <a:t>APPRENTICESHIP TRAIN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&amp;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6c2826"/>
                </a:solidFill>
                <a:latin typeface="Comic Sans MS"/>
              </a:rPr>
              <a:t>REGISTERED APPRENTICESHIP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j0295366"/>
          <p:cNvPicPr/>
          <p:nvPr/>
        </p:nvPicPr>
        <p:blipFill>
          <a:blip r:embed="rId1"/>
          <a:stretch/>
        </p:blipFill>
        <p:spPr>
          <a:xfrm>
            <a:off x="304920" y="2540160"/>
            <a:ext cx="19652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2826"/>
                </a:solidFill>
                <a:latin typeface="Comic Sans MS"/>
              </a:rPr>
              <a:t>REGISTERED APPRENTICESHIP PROGRAM (RA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mic Sans MS"/>
              </a:rPr>
              <a:t>STUDENTS LEARN A TRADE WHILE IN HIGH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AP STUDENTS MUST BE WORKING ON A HIGH SCHOOL DIPLOMA AND LEARNING A TRADE AT THE SAM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IME IS FLEXIB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- School half day, work half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- After school, weekends and on holi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- Sum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MCj02321330000[1]"/>
          <p:cNvPicPr/>
          <p:nvPr/>
        </p:nvPicPr>
        <p:blipFill>
          <a:blip r:embed="rId1"/>
          <a:stretch/>
        </p:blipFill>
        <p:spPr>
          <a:xfrm>
            <a:off x="0" y="685800"/>
            <a:ext cx="1474920" cy="15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0041-0503-1417-0533"/>
          <p:cNvPicPr/>
          <p:nvPr/>
        </p:nvPicPr>
        <p:blipFill>
          <a:blip r:embed="rId2"/>
          <a:stretch/>
        </p:blipFill>
        <p:spPr>
          <a:xfrm>
            <a:off x="6858000" y="3733920"/>
            <a:ext cx="179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BENEFITS OF R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LEARN A T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ACTICAL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EARN UP TO 40 CREDITS FOR 1000 HOURS OF FIRS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EARN $$ WHILE IN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c28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2826"/>
                </a:solidFill>
                <a:latin typeface="Comic Sans MS"/>
              </a:rPr>
              <a:t>MAYBE A JOB AFTER GRAD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OOD REFERENCES FROM EMPLO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0511-0703-2014-1738"/>
          <p:cNvPicPr/>
          <p:nvPr/>
        </p:nvPicPr>
        <p:blipFill>
          <a:blip r:embed="rId1"/>
          <a:stretch/>
        </p:blipFill>
        <p:spPr>
          <a:xfrm>
            <a:off x="5105520" y="1401840"/>
            <a:ext cx="1812960" cy="144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01-chef"/>
          <p:cNvPicPr/>
          <p:nvPr/>
        </p:nvPicPr>
        <p:blipFill>
          <a:blip r:embed="rId2"/>
          <a:stretch/>
        </p:blipFill>
        <p:spPr>
          <a:xfrm>
            <a:off x="6858000" y="3657600"/>
            <a:ext cx="1727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STEP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DECIDE ON A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REPARE A GOOD RESUME AND COVER LETTER, PRACTICE FO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FIND AN EMPLO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ORK WITH THE RAP COORDINATOR TO SET UP 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APPLY TO THE APPRENTICESHIP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GO TO WORK AND LEAR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emails"/>
          <p:cNvPicPr/>
          <p:nvPr/>
        </p:nvPicPr>
        <p:blipFill>
          <a:blip r:embed="rId1"/>
          <a:stretch/>
        </p:blipFill>
        <p:spPr>
          <a:xfrm>
            <a:off x="6781680" y="304920"/>
            <a:ext cx="1876680" cy="1654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TOCL0090"/>
          <p:cNvPicPr/>
          <p:nvPr/>
        </p:nvPicPr>
        <p:blipFill>
          <a:blip r:embed="rId2"/>
          <a:stretch/>
        </p:blipFill>
        <p:spPr>
          <a:xfrm>
            <a:off x="6019920" y="5181480"/>
            <a:ext cx="16002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TIPS FROM TRADES PEO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EN YOU ARE LOOKING FOR A JOB IN THE TR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Look your B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Dress for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Courte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Grate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Ea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Rel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db_welderca112"/>
          <p:cNvPicPr/>
          <p:nvPr/>
        </p:nvPicPr>
        <p:blipFill>
          <a:blip r:embed="rId1"/>
          <a:stretch/>
        </p:blipFill>
        <p:spPr>
          <a:xfrm>
            <a:off x="7010280" y="4343400"/>
            <a:ext cx="1791000" cy="179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mechanic"/>
          <p:cNvPicPr/>
          <p:nvPr/>
        </p:nvPicPr>
        <p:blipFill>
          <a:blip r:embed="rId2"/>
          <a:stretch/>
        </p:blipFill>
        <p:spPr>
          <a:xfrm>
            <a:off x="4724280" y="2438280"/>
            <a:ext cx="16671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TRENDS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j0285444"/>
          <p:cNvPicPr/>
          <p:nvPr/>
        </p:nvPicPr>
        <p:blipFill>
          <a:blip r:embed="rId1"/>
          <a:stretch/>
        </p:blipFill>
        <p:spPr>
          <a:xfrm>
            <a:off x="3276720" y="3581280"/>
            <a:ext cx="232884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rcRect l="0" t="0" r="948" b="0"/>
          <a:stretch/>
        </p:blipFill>
        <p:spPr>
          <a:xfrm>
            <a:off x="642960" y="345960"/>
            <a:ext cx="796752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930" t="0" r="0" b="0"/>
          <a:stretch/>
        </p:blipFill>
        <p:spPr>
          <a:xfrm>
            <a:off x="533520" y="304920"/>
            <a:ext cx="8119800" cy="61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1189" r="893" b="201"/>
          <a:stretch/>
        </p:blipFill>
        <p:spPr>
          <a:xfrm>
            <a:off x="304920" y="30492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Comic Sans MS"/>
              </a:rPr>
              <a:t>THE TRADES –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1f497d"/>
                </a:solidFill>
                <a:latin typeface="Comic Sans MS"/>
              </a:rPr>
              <a:t>APPRENTICESHIP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j0436057[1]"/>
          <p:cNvPicPr/>
          <p:nvPr/>
        </p:nvPicPr>
        <p:blipFill>
          <a:blip r:embed="rId1"/>
          <a:stretch/>
        </p:blipFill>
        <p:spPr>
          <a:xfrm>
            <a:off x="457200" y="1295280"/>
            <a:ext cx="1542960" cy="183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415984[1]"/>
          <p:cNvPicPr/>
          <p:nvPr/>
        </p:nvPicPr>
        <p:blipFill>
          <a:blip r:embed="rId2"/>
          <a:stretch/>
        </p:blipFill>
        <p:spPr>
          <a:xfrm>
            <a:off x="1066680" y="4497480"/>
            <a:ext cx="16002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 Sans MS"/>
              </a:rPr>
              <a:t>WHAT ARE TRAD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MORE THAN 50 TRADES IN ALBE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mic Sans MS"/>
              </a:rPr>
              <a:t>TRADES = HANDS ON + TECHN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SOME TRADES REQUIRE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JOURNEYPERSONS, SOME DO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EIGHT CATEGORIES OF TR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BUILDING, ELECTRICAL, INDUSTRIA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METAL, PIPING, SERVICE, VEHI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0511-0703-2014-1805"/>
          <p:cNvPicPr/>
          <p:nvPr/>
        </p:nvPicPr>
        <p:blipFill>
          <a:blip r:embed="rId1"/>
          <a:stretch/>
        </p:blipFill>
        <p:spPr>
          <a:xfrm>
            <a:off x="7238880" y="3581280"/>
            <a:ext cx="1733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omic Sans MS"/>
              </a:rPr>
              <a:t>WHAT IS APPRENTICESHIP TRAIN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28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2826"/>
                </a:solidFill>
                <a:latin typeface="Comic Sans MS"/>
              </a:rPr>
              <a:t>APPRENTICES WORK FOR JOURNEYPER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APPRENTICES LEARN ON THE JOB AND IN POSTSECONDARY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0% ON THE JOB, 20% IN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 Sans MS"/>
              </a:rPr>
              <a:t>EARN AND LEAR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c28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2826"/>
                </a:solidFill>
                <a:latin typeface="Comic Sans MS"/>
              </a:rPr>
              <a:t>APPRENTICES ARE PAID WHILE ON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UTOMOTIVE SERVICE APPRENTI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55% YEAR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70% YEAR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80% YEAR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90% YEAR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I OR GRANTS WHILE IN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clipart0278"/>
          <p:cNvPicPr/>
          <p:nvPr/>
        </p:nvPicPr>
        <p:blipFill>
          <a:blip r:embed="rId1"/>
          <a:stretch/>
        </p:blipFill>
        <p:spPr>
          <a:xfrm>
            <a:off x="6095880" y="30481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8:24:15Z</dcterms:created>
  <dc:creator>Administrator</dc:creator>
  <dc:description/>
  <dc:language>en-US</dc:language>
  <cp:lastModifiedBy>owner</cp:lastModifiedBy>
  <dcterms:modified xsi:type="dcterms:W3CDTF">2010-11-22T22:00:07Z</dcterms:modified>
  <cp:revision>51</cp:revision>
  <dc:subject/>
  <dc:title>Slide 1</dc:title>
</cp:coreProperties>
</file>